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926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905-0002-48D7-8A0F-A01A31656B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032-0AB1-4464-AC1C-E0882BF5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1F3-6732-455D-B0CA-15E67FAC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3291804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15711120"/>
            <a:ext cx="3291804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69624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1571112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8696240" y="1571112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8560" y="684684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088320" y="684684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1571112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2958560" y="1571112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4088320" y="15711120"/>
            <a:ext cx="1059948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6846840"/>
            <a:ext cx="3291804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3291804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606392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8696240" y="6846840"/>
            <a:ext cx="1606392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28800" y="1167480"/>
            <a:ext cx="32918040" cy="226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8696240" y="6846840"/>
            <a:ext cx="1606392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1571112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6063920" cy="169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869624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696240" y="1571112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167480"/>
            <a:ext cx="3291804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8696240" y="6846840"/>
            <a:ext cx="1606392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15711120"/>
            <a:ext cx="32918040" cy="80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132e"/>
            </a:gs>
            <a:gs pos="100000">
              <a:srgbClr val="152a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30556080" y="2869236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burn University is an equal opportunity institution/emplo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7" descr="V, 158-289 (2007)"/>
          <p:cNvPicPr/>
          <p:nvPr/>
        </p:nvPicPr>
        <p:blipFill>
          <a:blip r:embed="rId2"/>
          <a:stretch/>
        </p:blipFill>
        <p:spPr>
          <a:xfrm>
            <a:off x="685800" y="762120"/>
            <a:ext cx="4267080" cy="34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132e"/>
            </a:gs>
            <a:gs pos="100000">
              <a:srgbClr val="152a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736920" y="7772400"/>
            <a:ext cx="7238880" cy="38088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25080" y="17754480"/>
            <a:ext cx="14401800" cy="38124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25080" y="7772400"/>
            <a:ext cx="14401800" cy="38088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7772400"/>
            <a:ext cx="7238880" cy="38088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14440" y="1320480"/>
            <a:ext cx="28892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ahoma"/>
              </a:rPr>
              <a:t>Android to Promote Education in</a:t>
            </a:r>
            <a:br>
              <a:rPr sz="10000"/>
            </a:br>
            <a:r>
              <a:rPr b="0" lang="en-US" sz="10000" spc="-1" strike="noStrike">
                <a:solidFill>
                  <a:srgbClr val="ffffff"/>
                </a:solidFill>
                <a:latin typeface="Tahoma"/>
              </a:rPr>
              <a:t>Mobile Device Development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6"/>
          <p:cNvSpPr/>
          <p:nvPr/>
        </p:nvSpPr>
        <p:spPr>
          <a:xfrm>
            <a:off x="7315200" y="4648320"/>
            <a:ext cx="217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ris Baker and Danny No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SF-REU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3"/>
          <p:cNvSpPr/>
          <p:nvPr/>
        </p:nvSpPr>
        <p:spPr>
          <a:xfrm>
            <a:off x="1066680" y="8000280"/>
            <a:ext cx="8077320" cy="914400"/>
          </a:xfrm>
          <a:prstGeom prst="rect">
            <a:avLst/>
          </a:prstGeom>
          <a:solidFill>
            <a:srgbClr val="849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14"/>
          <p:cNvSpPr/>
          <p:nvPr/>
        </p:nvSpPr>
        <p:spPr>
          <a:xfrm>
            <a:off x="990720" y="7543800"/>
            <a:ext cx="8381880" cy="19202400"/>
          </a:xfrm>
          <a:custGeom>
            <a:avLst/>
            <a:gdLst>
              <a:gd name="textAreaLeft" fmla="*/ 408960 w 8381880"/>
              <a:gd name="textAreaRight" fmla="*/ 7972920 w 8381880"/>
              <a:gd name="textAreaTop" fmla="*/ 408960 h 19202400"/>
              <a:gd name="textAreaBottom" fmla="*/ 18793440 h 19202400"/>
            </a:gdLst>
            <a:ahLst/>
            <a:rect l="textAreaLeft" t="textAreaTop" r="textAreaRight" b="textAreaBottom"/>
            <a:pathLst>
              <a:path w="21600" h="49483">
                <a:moveTo>
                  <a:pt x="3600" y="0"/>
                </a:moveTo>
                <a:arcTo wR="3600" hR="3600" stAng="16200000" swAng="-5400000"/>
                <a:lnTo>
                  <a:pt x="0" y="45883"/>
                </a:lnTo>
                <a:arcTo wR="3600" hR="3600" stAng="10800000" swAng="-5400000"/>
                <a:lnTo>
                  <a:pt x="18000" y="494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960">
            <a:solidFill>
              <a:srgbClr val="4e7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33"/>
          <p:cNvSpPr/>
          <p:nvPr/>
        </p:nvSpPr>
        <p:spPr>
          <a:xfrm>
            <a:off x="10667880" y="7925400"/>
            <a:ext cx="15240240" cy="91440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ndroid on Nokia N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27"/>
          <p:cNvSpPr/>
          <p:nvPr/>
        </p:nvSpPr>
        <p:spPr>
          <a:xfrm>
            <a:off x="10439280" y="7543800"/>
            <a:ext cx="15697440" cy="9220320"/>
          </a:xfrm>
          <a:prstGeom prst="roundRect">
            <a:avLst>
              <a:gd name="adj" fmla="val 16667"/>
            </a:avLst>
          </a:prstGeom>
          <a:noFill/>
          <a:ln w="507960">
            <a:solidFill>
              <a:srgbClr val="0043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33"/>
          <p:cNvSpPr/>
          <p:nvPr/>
        </p:nvSpPr>
        <p:spPr>
          <a:xfrm>
            <a:off x="27355680" y="7925400"/>
            <a:ext cx="8229600" cy="91440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14"/>
          <p:cNvSpPr/>
          <p:nvPr/>
        </p:nvSpPr>
        <p:spPr>
          <a:xfrm>
            <a:off x="27127080" y="7543800"/>
            <a:ext cx="8610840" cy="19202400"/>
          </a:xfrm>
          <a:custGeom>
            <a:avLst/>
            <a:gdLst>
              <a:gd name="textAreaLeft" fmla="*/ 420120 w 8610840"/>
              <a:gd name="textAreaRight" fmla="*/ 8190720 w 8610840"/>
              <a:gd name="textAreaTop" fmla="*/ 420120 h 19202400"/>
              <a:gd name="textAreaBottom" fmla="*/ 18782280 h 19202400"/>
            </a:gdLst>
            <a:ahLst/>
            <a:rect l="textAreaLeft" t="textAreaTop" r="textAreaRight" b="textAreaBottom"/>
            <a:pathLst>
              <a:path w="21600" h="48167">
                <a:moveTo>
                  <a:pt x="3600" y="0"/>
                </a:moveTo>
                <a:arcTo wR="3600" hR="3600" stAng="16200000" swAng="-5400000"/>
                <a:lnTo>
                  <a:pt x="0" y="44567"/>
                </a:lnTo>
                <a:arcTo wR="3600" hR="3600" stAng="10800000" swAng="-5400000"/>
                <a:lnTo>
                  <a:pt x="18000" y="48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960">
            <a:solidFill>
              <a:srgbClr val="4e7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33"/>
          <p:cNvSpPr/>
          <p:nvPr/>
        </p:nvSpPr>
        <p:spPr>
          <a:xfrm>
            <a:off x="10667880" y="17907840"/>
            <a:ext cx="15240240" cy="914400"/>
          </a:xfrm>
          <a:prstGeom prst="rect">
            <a:avLst/>
          </a:prstGeom>
          <a:solidFill>
            <a:srgbClr val="8a9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ndroid on Sharp Zaurus SL-C3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7"/>
          <p:cNvSpPr/>
          <p:nvPr/>
        </p:nvSpPr>
        <p:spPr>
          <a:xfrm>
            <a:off x="10439280" y="17525880"/>
            <a:ext cx="15697440" cy="9220320"/>
          </a:xfrm>
          <a:prstGeom prst="roundRect">
            <a:avLst>
              <a:gd name="adj" fmla="val 16667"/>
            </a:avLst>
          </a:prstGeom>
          <a:noFill/>
          <a:ln w="507960">
            <a:solidFill>
              <a:srgbClr val="0043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60" descr="android-wallpaper2_1024x768.png"/>
          <p:cNvPicPr/>
          <p:nvPr/>
        </p:nvPicPr>
        <p:blipFill>
          <a:blip r:embed="rId1"/>
          <a:stretch/>
        </p:blipFill>
        <p:spPr>
          <a:xfrm>
            <a:off x="29489400" y="2095560"/>
            <a:ext cx="502920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0269080" y="9601200"/>
            <a:ext cx="5257800" cy="39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1031200" y="19659600"/>
            <a:ext cx="441972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824560" y="9553680"/>
            <a:ext cx="437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ndro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2520" y="10363320"/>
            <a:ext cx="750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is a software stack for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Linux kernel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8160" y="12801600"/>
            <a:ext cx="759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is being developed and fund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Handset Alliance (headed by Goog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open standards for mobil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505320" y="14554080"/>
            <a:ext cx="3211560" cy="35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445760" y="18516600"/>
            <a:ext cx="669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has four main features to at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pplication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information from phone/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Development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90680" y="21821760"/>
            <a:ext cx="53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our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65920" y="22631400"/>
            <a:ext cx="76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 to successfully port Android t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and obtain a working Android de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device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kia N800 Internet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p Zaurus SL-C3200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506320" y="9372600"/>
            <a:ext cx="8358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version 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 kernel 2.6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r>
              <a:rPr b="0" lang="en-US" sz="2800" spc="-1" strike="noStrike">
                <a:solidFill>
                  <a:srgbClr val="ffffff"/>
                </a:solidFill>
                <a:latin typeface="ヒラギノ角ゴ ProN W3"/>
              </a:rPr>
              <a:t>_x0001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applic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touch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Fi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was put on the N800 by flashing over a new Linux kernel and transferring the Android file system to a microSD card. As we did not overwrite the existing OS2008 operating system (which runs on a Linux kernel anyway), we can start Android within OS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06320" y="19354680"/>
            <a:ext cx="8735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version 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 kernel 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applic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in QWERTY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WiFi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ouch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was put on the C3200 by completely overwriting the existing operating system with a new Linux kernel (2.6.23) and the Android file system. Booting the C3200 then lead to a terminal screen, where Android could be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494080" y="952488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stacles f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36920" y="1051560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source code for Android is not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patched with Android fixes specific to a device’s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familiar with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with cross-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ar with Android architecture and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43000" y="15925680"/>
            <a:ext cx="618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duc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12880" y="1691640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 covered in rese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oid applic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ool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with cross-comp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s of the Linux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 commands and terminal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with open sourc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8243080" y="21272400"/>
            <a:ext cx="6351840" cy="410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6:08:42Z</dcterms:created>
  <dc:creator>Aileen Broaddus</dc:creator>
  <dc:description/>
  <dc:language>en-US</dc:language>
  <cp:lastModifiedBy>Chris Baker</cp:lastModifiedBy>
  <cp:lastPrinted>2008-02-18T13:37:05Z</cp:lastPrinted>
  <dcterms:modified xsi:type="dcterms:W3CDTF">2008-07-22T17:43:09Z</dcterms:modified>
  <cp:revision>74</cp:revision>
  <dc:subject/>
  <dc:title>Slide 1</dc:title>
</cp:coreProperties>
</file>